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F52-BD27-441F-9593-306060E8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A0A-4738-4E01-8310-D9ABAAC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D90-AFB5-47F2-A732-1D69C01A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EC2-4F60-485F-B6D5-C4B5CA53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53C-B780-4E11-95D9-C38E1BE3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C7A-B748-4B44-925C-9D7A892C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FB4-689A-4ECC-940A-F6CF268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0C7-CC76-4AC9-8649-2F90AD2D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872-CFD8-4B9B-BBDA-AFE5F47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5D9-D675-4CC2-A058-2C0CD8A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1A7-0196-4619-8710-2C171874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E7F-F5EE-4487-8DEA-381AF916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619-11F9-408E-B467-7E6C51AF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Eurostile"/>
              </a:rPr>
              <a:t>Brussels, Belgium…on a sunn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Eurostile"/>
              </a:rPr>
              <a:t>Here is the Grand Cathedral in Central Brusse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77120" y="0"/>
            <a:ext cx="26668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Eurostile"/>
              </a:rPr>
              <a:t>Catherine pauses for a moment during our recent Sunday trip to Brussels’ Grand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371600"/>
          </a:xfrm>
          <a:prstGeom prst="rect">
            <a:avLst/>
          </a:prstGeom>
          <a:solidFill>
            <a:srgbClr val="808080">
              <a:alpha val="10000"/>
            </a:srgbClr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Eurostile"/>
              </a:rPr>
              <a:t>Stylized period architecture surrounded us as we walked about, yet many facades held newer lavish stores, includ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>
              <a:alpha val="60000"/>
            </a:srgbClr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Eurostile"/>
              </a:rPr>
              <a:t>…</a:t>
            </a:r>
            <a:r>
              <a:rPr b="1" i="1" lang="en-US" sz="2000" spc="-1" strike="noStrike">
                <a:solidFill>
                  <a:srgbClr val="ff0000"/>
                </a:solidFill>
                <a:latin typeface="Eurostile"/>
              </a:rPr>
              <a:t>Some of the finest chocolates around.  No surprise t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9720" y="228600"/>
            <a:ext cx="3124440" cy="6399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Eurostile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Eurostile"/>
              </a:rPr>
              <a:t>There may be a government that is run from this area, but you wouldn’t know it from all the commerce that is taking place down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854600" cy="639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9720" y="228600"/>
            <a:ext cx="3124440" cy="6399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Eurostile"/>
              </a:rPr>
              <a:t>And what trip to Brussels would be complete without a visit to see the little statue that can always g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798800" cy="6399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5520" y="6019920"/>
            <a:ext cx="3048120" cy="838080"/>
          </a:xfrm>
          <a:prstGeom prst="rect">
            <a:avLst/>
          </a:prstGeom>
          <a:solidFill>
            <a:srgbClr val="bbe0e3">
              <a:alpha val="70000"/>
            </a:srgbClr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Eurostile"/>
              </a:rPr>
              <a:t>Bienvenue à Bruxelles!  Bonne Journé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7:20:04Z</dcterms:created>
  <dc:creator>catherine pongratz</dc:creator>
  <dc:description/>
  <dc:language>en-US</dc:language>
  <cp:lastModifiedBy>catherine pongratz</cp:lastModifiedBy>
  <dcterms:modified xsi:type="dcterms:W3CDTF">2005-05-23T16:04:27Z</dcterms:modified>
  <cp:revision>3</cp:revision>
  <dc:subject/>
  <dc:title>Brussels, Belgium…on a sunny day</dc:title>
</cp:coreProperties>
</file>