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AD3-F802-426C-83E0-512801FF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E2A-B0B9-43C6-B19F-5B3C7D24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4B3-4ED3-45DE-9167-71062BAB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A96-FA62-4C0F-AAE8-E551EFBA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20AE-D0B4-4EE0-8469-AE4C4347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F0CC-B46D-4503-A624-C18F887B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5394-58A0-4CEB-8C7F-1ECBF345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1257-87A5-4236-BA59-5C29126E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75C7-BE1C-4B85-8701-895D70BE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0516-CE7C-4A66-B1DB-970261F2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6A85-488F-477B-A77D-7CDD9BB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1B1-7380-4511-A6F4-A9689D79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C8C8-8330-43C1-BD8E-2AA7D442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6C3C-65D6-45EF-937C-B698C338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8875-D455-4F1F-BB1A-6623E65E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80F5-DF87-45D1-A5FD-9D67AF85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0626-B0DB-4B07-BBD8-05C26685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BB6-D9C6-4C13-B9D5-ABA70175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42B-0035-4A09-B740-269A388E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751-25C7-40F9-A29A-215564B8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568-D5BB-4B2D-8397-B6E7840F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F4A-FA44-4FB6-92C9-53F305AC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8B0-7069-44F3-9A24-5BBB7BF8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43F-FDCC-4125-B669-B5F70B7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C209-0D3F-4BAB-AE4D-97032B75D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57C-EDD3-440A-B3CC-7EE40D270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immy is a Democrat…..Yeah!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24" name="tampa_times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463840" cy="3429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immy and the plane…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27" name="plane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023920" cy="2248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immy for president…..W sux!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30" name="2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651640" cy="24163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nzzzz to the left…..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33" name="jimmyswim" descr=""/>
          <p:cNvPicPr/>
          <p:nvPr/>
        </p:nvPicPr>
        <p:blipFill>
          <a:blip r:embed="rId1"/>
          <a:stretch/>
        </p:blipFill>
        <p:spPr>
          <a:xfrm>
            <a:off x="3200400" y="2406600"/>
            <a:ext cx="2743200" cy="26226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01:31:23Z</dcterms:created>
  <dc:creator>GAT3CW10</dc:creator>
  <dc:description/>
  <dc:language>en-US</dc:language>
  <cp:lastModifiedBy>GAT3CW10</cp:lastModifiedBy>
  <dcterms:modified xsi:type="dcterms:W3CDTF">2001-08-02T01:54:12Z</dcterms:modified>
  <cp:revision>1</cp:revision>
  <dc:subject/>
  <dc:title>Jimmy is a Democrat…..Yeah!!</dc:title>
</cp:coreProperties>
</file>